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1F5-D576-43A7-9AEB-A808A257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2B5-874C-4457-834E-238C9C0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7D3-BD1C-48CD-BD9E-5702672E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6FB-BCA0-4BD9-A48B-E20AE63C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FC5-35EA-46CE-B653-E01BD816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746-67EB-4277-BAD3-CDD34FB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F53-1B09-4458-85B3-EED0493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2D5-B54F-4DBC-B763-42133E2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B32-0A8E-4B04-9EF2-2FCFE24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9E1-8F9A-4631-98F7-5A11CE3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518-E9AA-4BCD-933C-8E70E63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4E7-B415-48D1-8E33-34B13DB3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8A6A-F2AC-473F-A363-3A25233D2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82200" y="2268000"/>
            <a:ext cx="6651720" cy="46047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cc99ff"/>
                </a:solidFill>
                <a:latin typeface="comic"/>
              </a:rPr>
              <a:t>78 </a:t>
            </a:r>
            <a:r>
              <a:rPr b="1" lang="en-US" sz="4400" spc="-1" strike="noStrike">
                <a:solidFill>
                  <a:srgbClr val="cc99ff"/>
                </a:solidFill>
                <a:latin typeface="comic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Часът се не зна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който Бог наш ще дойд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близък е край - 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ой приготвил е Свойт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дойде Той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лава и власт голям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8440" y="429840"/>
            <a:ext cx="63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а бдим всеки ч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молитва усърдн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ек всеки от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секи час да пребъдва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А щом дойде пак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с Свойта праведна съдб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земе в неб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04360" y="-25920"/>
            <a:ext cx="5766120" cy="39344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вземе нас Т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т тоз свят на трево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вечен поко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ще ни води при Бога.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небесний дом т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Исуса в чертога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век ще бъдем с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76920" y="45720"/>
            <a:ext cx="793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, нека бдим и се молим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Той! Алилуя, алилу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де в облац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силата на Отца Свой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о часът се не зн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41:46Z</dcterms:created>
  <dc:creator>TrifonTrifonow</dc:creator>
  <dc:description/>
  <dc:language>en-US</dc:language>
  <cp:lastModifiedBy>TrifonTrifonow</cp:lastModifiedBy>
  <dcterms:modified xsi:type="dcterms:W3CDTF">2005-11-23T20:59:30Z</dcterms:modified>
  <cp:revision>8</cp:revision>
  <dc:subject/>
  <dc:title>Slide 1</dc:title>
</cp:coreProperties>
</file>